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0B0-E92C-4402-92BB-3AF990A5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542-A45F-4315-B3B0-BD2EF90C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080-D99E-4AA3-95DC-25041BBD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D8D-5F45-4E5C-B8CF-6A322555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BB8-37B7-43E0-8FF8-907E8E96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1C1-2EAA-43BA-BDD2-052EDBC3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108-1796-4469-99B3-A969F8D2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178-466C-474B-AE7E-E1C48E60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F91-77E6-403A-928B-47D27BE4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47D-7AE6-489D-962C-744FCD6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6B6-AC12-4860-A3B9-F3E033F8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B9D-C3F6-41D9-8B52-C39B654B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19C6-C714-452A-80FB-326EAA2EF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tainjesus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876920" cy="9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سوع قال لي أنا حارسك مالك خايف من إيه؟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حِملَك وأخدته عنَّك مالك تعبان من إيه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خوفك دا عدم إيمان تعبك ده مالوهش مكان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سلَّمت الدفَّة لمين يحدفها شمال ويمين؟ 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ليه تعيش في الدنيا شريد وانت ليك كلِّ المواعيد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5524112qsHxQg_th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0"/>
            <a:ext cx="45720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في نهاية ألمي وتعبي قلتلهم  أنا عطش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في عطشي وظمأي رويتك وبروحي بقيت مل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تصرخ دايماً وحزين وكأنه مالكش مُعين</a:t>
            </a:r>
            <a:r>
              <a:rPr b="0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891540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عيش في عطش وف جوع  ليه عينيك مليانه دم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4916690EgLuIu_ph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5334120" cy="82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نكَّست عشانك راسي إكليلي كان أش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وفي موتي وجدت حياتك بعد مازالت خطاي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أنا شايفك زعلان كان أملي تكون فرح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عيش عبد ومملوك وانت أبوك ملك المل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2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28:10Z</dcterms:created>
  <dc:creator>SUZANNE.MD</dc:creator>
  <dc:description/>
  <dc:language>en-US</dc:language>
  <cp:lastModifiedBy>USER</cp:lastModifiedBy>
  <dcterms:modified xsi:type="dcterms:W3CDTF">2003-02-17T14:37:45Z</dcterms:modified>
  <cp:revision>2</cp:revision>
  <dc:subject/>
  <dc:title>PowerPoint Presentation</dc:title>
</cp:coreProperties>
</file>